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5.png" ContentType="image/pn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7D7A-070A-4A53-859C-EFC74895F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7B21-0478-4EFE-8ED6-53EF2BC46E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DC4-8A78-46C9-BE39-ACBE0D03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9C4-2A93-4A05-8859-7F7F0D41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C4B-BF00-40F4-9CA4-A8ED16F3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EEAC-9B60-49BF-8D60-E373396F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4094-CDE8-4103-A55A-1B59CCC6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CA65-C782-4FEB-9DB8-CED137F4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19C3-5A09-4DB5-AABF-D239F0BB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160E-533A-40AA-A466-874676EB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570E-1CAB-4AA5-BE9A-06143D1A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A392-3957-4E6B-A327-0F650BDE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669F-79D0-458E-9C20-D47FDB5D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A672-D7F2-40C0-B2CD-7B4D083B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13CF-E2B1-4F8A-9CE7-7D183F59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FA52-4744-4537-809E-DE4962E2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507E-5F0D-4539-ABEA-7A6342AA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57D7-5141-42C1-AC9A-B7451350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5B7E-93AF-469A-B6FA-B7C249F5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296-E195-4A80-8407-22B03653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872B-0275-4A56-8D31-AA3BC431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C6E-BE22-423F-80B5-7A0D21FE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A887-EAF4-4ED9-A02A-B67F7985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20F-F066-49CE-9A4B-43E08F1E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F018-2D6E-4958-AAFE-07ADB1E8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514-7568-4015-B4D5-711DB85F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A340-313B-433A-ACC4-E87EE760FE5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A9C1-9602-4C58-A043-A94FF8F4C9B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510400" cy="2054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y sam and trento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Picture 3" descr="trenehuilrgyutrho95uiw3z4rc3eecedcedc.jpg"/>
          <p:cNvPicPr/>
          <p:nvPr/>
        </p:nvPicPr>
        <p:blipFill>
          <a:blip r:embed="rId2"/>
          <a:stretch/>
        </p:blipFill>
        <p:spPr>
          <a:xfrm>
            <a:off x="228600" y="3962520"/>
            <a:ext cx="2895480" cy="2400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nfnnfnfnnfnfnfn.jpg"/>
          <p:cNvPicPr/>
          <p:nvPr/>
        </p:nvPicPr>
        <p:blipFill>
          <a:blip r:embed="rId3"/>
          <a:stretch/>
        </p:blipFill>
        <p:spPr>
          <a:xfrm>
            <a:off x="3505320" y="3809880"/>
            <a:ext cx="42400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legislative branch is the congress it makes laws and establishes laws . It is made up of the congress and government agencies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3" descr="trentonmomd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581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trentonmomdadsisterdog.jpg"/>
          <p:cNvPicPr/>
          <p:nvPr/>
        </p:nvPicPr>
        <p:blipFill>
          <a:blip r:embed="rId3"/>
          <a:stretch/>
        </p:blipFill>
        <p:spPr>
          <a:xfrm>
            <a:off x="0" y="5181480"/>
            <a:ext cx="9144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298440" y="1365120"/>
            <a:ext cx="8674200" cy="20545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s has president and can make laws and make commands the army.The executive branch has a vice president that can become the president if the president can no longer do the job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3" descr="hiiiiiiiiii.jpg"/>
          <p:cNvPicPr/>
          <p:nvPr/>
        </p:nvPicPr>
        <p:blipFill>
          <a:blip r:embed="rId2"/>
          <a:stretch/>
        </p:blipFill>
        <p:spPr>
          <a:xfrm>
            <a:off x="457200" y="0"/>
            <a:ext cx="3276720" cy="2548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rfhuyhygjy45gjyjg.jpg"/>
          <p:cNvPicPr/>
          <p:nvPr/>
        </p:nvPicPr>
        <p:blipFill>
          <a:blip r:embed="rId3"/>
          <a:stretch/>
        </p:blipFill>
        <p:spPr>
          <a:xfrm>
            <a:off x="3733920" y="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herynhyunihnyn4y.jpg"/>
          <p:cNvPicPr/>
          <p:nvPr/>
        </p:nvPicPr>
        <p:blipFill>
          <a:blip r:embed="rId4"/>
          <a:stretch/>
        </p:blipFill>
        <p:spPr>
          <a:xfrm>
            <a:off x="6248520" y="0"/>
            <a:ext cx="28954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238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s the branch that contains the supreme court this branch can decide what laws follow the constitution . This branch is made up of the court and the supreme court is the highest court system in the branch 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Picture 3" descr="trenton.jpg"/>
          <p:cNvPicPr/>
          <p:nvPr/>
        </p:nvPicPr>
        <p:blipFill>
          <a:blip r:embed="rId2"/>
          <a:stretch/>
        </p:blipFill>
        <p:spPr>
          <a:xfrm>
            <a:off x="0" y="3832200"/>
            <a:ext cx="4038480" cy="302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EPIC!!!.bmp"/>
          <p:cNvPicPr/>
          <p:nvPr/>
        </p:nvPicPr>
        <p:blipFill>
          <a:blip r:embed="rId3"/>
          <a:stretch/>
        </p:blipFill>
        <p:spPr>
          <a:xfrm>
            <a:off x="4191120" y="3733920"/>
            <a:ext cx="4694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9:26:53Z</dcterms:created>
  <dc:creator>TechSpec</dc:creator>
  <dc:description/>
  <dc:language>en-US</dc:language>
  <cp:lastModifiedBy>TechSpec</cp:lastModifiedBy>
  <dcterms:modified xsi:type="dcterms:W3CDTF">2012-03-26T19:39:27Z</dcterms:modified>
  <cp:revision>8</cp:revision>
  <dc:subject/>
  <dc:title>The  Three Branches of the Government</dc:title>
</cp:coreProperties>
</file>